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544-1C64-4971-9392-662686CA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EAB-F996-4BDA-8A75-368906CC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6E6-F18E-4885-BA6B-1A0C5249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D1C-6BEF-4693-A9DF-BE8743D1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EFCF-3D73-46DB-8702-EA095B44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3FB9-B0EF-4190-9EAD-4B05C4B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EE15-3A98-47E6-8367-7B803F6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FF1-E118-497C-A801-0C217EE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425-E448-4FC3-890E-2C8955A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EA46-4EDC-4BAE-B5D3-D057651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342C-77A4-43A0-8B1E-72996E8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A0D-80B4-4DDB-8DE2-C37B549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35AD-E485-4293-BCAC-E0AD4F1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639B-335A-4C52-B99E-B39BAC3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1B4-E4D3-42B2-95E7-764B5A8B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0609-9E1D-45B1-8152-6A808368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045-C13E-4DBC-9465-3191B135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09B-B8CB-4DA6-8AE5-F1FFD212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69F-2B17-41B8-B208-0E870F7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229-0C4E-4D54-BADC-DA16C6E7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1F3-59B5-40EB-8B2A-4A53EA1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F8-421B-43B8-9B59-7C80FC9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70E-55E6-41F1-A7B3-6B61EAE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B05-86D8-4020-A673-8E6253C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9E9-33B3-4794-80AB-14A294781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DA7-18B7-4761-9668-0F340FC4A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evii clasei a IV- a prezint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FRUMUSETI CREATE DE NATUR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2b00"/>
                </a:solidFill>
                <a:latin typeface="comic"/>
              </a:rPr>
              <a:t>CHEILE TURZ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Membrii echipe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ad Elena Ana-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iu T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a I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a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i Vo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 Ch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onator: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v. Natalia Z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chipa noastr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v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ă va conduce prin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Cheile Turzii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724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43400" y="22860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om prezenta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Scurtă d</a:t>
            </a: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scriere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Monotype Corsiva"/>
              </a:rPr>
              <a:t>Flora si fa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08080"/>
                </a:solidFill>
                <a:latin typeface="Monotype Corsiva"/>
              </a:rPr>
              <a:t>Turism şi sport în Cheile Turzii- colaje, des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Excursiile noastre 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în</a:t>
            </a:r>
            <a:r>
              <a:rPr b="0" lang="en-US" sz="3600" spc="-1" strike="noStrike">
                <a:solidFill>
                  <a:srgbClr val="e42b00"/>
                </a:solidFill>
                <a:latin typeface="Monotype Corsiva"/>
              </a:rPr>
              <a:t> Cheile Turzii- fotograf</a:t>
            </a: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e42b00"/>
                </a:solidFill>
                <a:latin typeface="Monotype Corsiva"/>
              </a:rPr>
              <a:t>Harta mută- localizarea satului nost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Desenele noast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6600"/>
                </a:solidFill>
                <a:latin typeface="Arial"/>
              </a:rPr>
              <a:t>Harţi şicolaj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762120" y="-457200"/>
            <a:ext cx="1066824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33:40Z</dcterms:created>
  <dc:creator>ws15</dc:creator>
  <dc:description/>
  <dc:language>en-US</dc:language>
  <cp:lastModifiedBy>a</cp:lastModifiedBy>
  <dcterms:modified xsi:type="dcterms:W3CDTF">2009-12-12T10:45:31Z</dcterms:modified>
  <cp:revision>6</cp:revision>
  <dc:subject/>
  <dc:title>Elevii clasei a IV- a prezinta</dc:title>
</cp:coreProperties>
</file>